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667415"/>
        <c:axId val="15784139"/>
      </c:barChart>
      <c:catAx>
        <c:axId val="836674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784139"/>
        <c:crosses val="autoZero"/>
        <c:auto val="1"/>
        <c:lblAlgn val="ctr"/>
        <c:lblOffset val="100"/>
        <c:noMultiLvlLbl val="0"/>
      </c:catAx>
      <c:valAx>
        <c:axId val="15784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6674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AB68-5DD5-4AEF-A656-68CF6FD9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F89-6001-40B2-96C7-133B6154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37A2-DDBB-4E69-A6BD-C6D19747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F769-2401-439B-87E5-0218BD2DF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CF08-72AA-4FE9-B56F-35D52845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0E15-8047-4830-A3B9-831C1F18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14C0-5768-4E84-8674-71C51C22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065-F287-44D7-983C-59BD12F6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7DC-B4AB-4496-A9B5-4BF36749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85DE-573B-416B-B5B8-F2CBEBC3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2926F-AFD2-4DB9-AD7A-1080D753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31A-D921-44A6-850F-85AA0690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CB94EC-8171-4BB9-AF79-CCDECCBED7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