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11219"/>
        <c:axId val="39006200"/>
      </c:barChart>
      <c:catAx>
        <c:axId val="29111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06200"/>
        <c:crosses val="autoZero"/>
        <c:auto val="1"/>
        <c:lblAlgn val="ctr"/>
        <c:lblOffset val="100"/>
        <c:noMultiLvlLbl val="0"/>
      </c:catAx>
      <c:valAx>
        <c:axId val="39006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11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24E-B868-4411-BB31-C117F45D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A6C-8746-4857-B7BE-E390F611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4A5-B2F9-4323-A8BF-BB09C186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489-CB1D-49E4-982D-5AC26DD3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11A-7F22-4386-BC56-C94A4A3C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7F6-5390-4CAD-A34D-9ABE58A5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916-BF20-401F-AFD0-7FF6BE0C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B65-346C-420E-B11F-BADB03DD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FC2-F884-4B4C-A66C-316056DC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964-825C-43F6-86E6-2BE38938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E2B-6F08-4FCC-9B73-13698AC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EBF-3DE0-4B21-9243-BF2DC1A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94104-6F00-46CB-A46E-7C9C9487E0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